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F96-CB91-4B01-BA43-C1E55570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D4B-DF70-4BC1-8A24-7254F005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9D2-C58C-45B9-9A9C-815575EA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0C5-5782-41EE-A54A-5F45A112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854-94DD-4C1B-9689-755EF953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A9D-8665-4FBD-84BB-020F3533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5CF-A751-4993-8C17-8B00554C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233-67E5-433D-B359-14179258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904-EB83-43E7-A5C6-1498AB73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482-D99A-4ED5-ABE9-5FEB3E7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CEA-C17B-4601-8008-D44EC1F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B3C-5144-4942-A961-135C7D4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BE7C-6F8F-4684-92DE-85959C88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th Post Test Sp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20080" cy="505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963400" y="6613560"/>
            <a:ext cx="317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nm.gmu.edu/courses/jackson/mill/index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85800"/>
            <a:ext cx="8001000" cy="155628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 indent="-60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out the early to mid-1800’s, the Lowell factory system primarily emplo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2819520"/>
            <a:ext cx="51055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rie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ried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438280"/>
            <a:ext cx="8991720" cy="29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ine in the southern slav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cline in the size of southern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e in cotto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e in the import of manufac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685800"/>
            <a:ext cx="7315200" cy="106884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as a major effect of the introduction of the cotton g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666880"/>
            <a:ext cx="7543800" cy="29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s enjoyed working near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vers were useful for powering m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ed goods could easily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ed by river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was important for b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838080"/>
            <a:ext cx="8610480" cy="113760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were factories located near riv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all tha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2743200"/>
            <a:ext cx="54100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14400"/>
            <a:ext cx="8381880" cy="10767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 indent="284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well factory system was affected by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284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all tha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41911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914400"/>
            <a:ext cx="8458200" cy="15033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characteristics of Lowell work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all tha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438280"/>
            <a:ext cx="6782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a more equal distribu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w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the growth of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urb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ended the reform mov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762120"/>
            <a:ext cx="8229600" cy="9471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immigration to the United States in the middle 1800s affect city li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590920"/>
            <a:ext cx="63248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to ow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to m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to v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to hold public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838080"/>
            <a:ext cx="8534520" cy="9471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1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was a right of most women in the early 180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5:13:49Z</dcterms:created>
  <dc:creator>Magner</dc:creator>
  <dc:description/>
  <dc:language>en-US</dc:language>
  <cp:lastModifiedBy>Magner</cp:lastModifiedBy>
  <dcterms:modified xsi:type="dcterms:W3CDTF">2009-08-29T00:57:43Z</dcterms:modified>
  <cp:revision>15</cp:revision>
  <dc:subject/>
  <dc:title>Slide 1</dc:title>
</cp:coreProperties>
</file>